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50132"/>
        <c:axId val="56189078"/>
      </c:barChart>
      <c:catAx>
        <c:axId val="29150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89078"/>
        <c:crosses val="autoZero"/>
        <c:auto val="1"/>
        <c:lblAlgn val="ctr"/>
        <c:lblOffset val="100"/>
        <c:noMultiLvlLbl val="0"/>
      </c:catAx>
      <c:valAx>
        <c:axId val="561890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50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CC0C-DE8B-45B7-AA60-C1B28607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D70-7B9A-4152-9DDB-CF33CEAF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171-F5BE-495E-A245-64CEB47E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64EF-6347-4880-B064-8FB79DD6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1AC8-4537-4804-BEE9-A107BE85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86C3-7EDB-40FF-B168-6233C1DD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0EC-A0B5-4006-A2A1-834F6577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2E30-CBC7-4685-97BB-E911A150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6FE8-4504-4606-B1CE-A6F56680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1C27-7C00-41BA-A747-2B60C32F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708-889B-40E8-928C-0E3F354D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59C-DCBE-404B-9070-05AB5794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60947-1BFC-4A00-B427-64464414D0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