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99333"/>
        <c:axId val="25086928"/>
      </c:barChart>
      <c:catAx>
        <c:axId val="91599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6928"/>
        <c:crosses val="autoZero"/>
        <c:auto val="1"/>
        <c:lblAlgn val="ctr"/>
        <c:lblOffset val="100"/>
        <c:noMultiLvlLbl val="0"/>
      </c:catAx>
      <c:valAx>
        <c:axId val="25086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99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462-BEDE-459C-B82B-6DD18074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A79-6619-404B-841B-35D0E5C9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B07-3F06-4C77-9207-024B7043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071-E307-4369-8735-623C11FC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EEE-73A3-46A6-A0FA-D9705B85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D92-0C37-47C9-B094-9906F26B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673-A65B-480D-BE55-82C5B946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982-84FA-4AAC-AED5-6535824F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C21-5DBB-484E-ABD9-0E7925EC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6A9-86B7-4672-A1E7-69EB485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B2D-5DA6-4805-AC88-A813D5C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CDE-ADDD-43C1-A25E-3257E5F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384C9-EC2F-406B-B677-29228586F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