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3404"/>
        <c:axId val="41940271"/>
      </c:barChart>
      <c:catAx>
        <c:axId val="5583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40271"/>
        <c:crosses val="autoZero"/>
        <c:auto val="1"/>
        <c:lblAlgn val="ctr"/>
        <c:lblOffset val="100"/>
        <c:noMultiLvlLbl val="0"/>
      </c:catAx>
      <c:valAx>
        <c:axId val="41940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3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42D4-F657-4504-937C-74F482EC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25E-D96A-4917-930F-857F6510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7540-58C2-4E71-AE70-1952FEF7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533E-E30F-48B1-97AE-4B7CFF2B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9A7-FC09-4F73-B35B-27B87327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3D4-0666-4A77-9145-EEB0EB1B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EB4-8188-463B-A8D9-6884DB85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68C5-2CA0-4EA2-BDE4-432E3709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C98E-06F0-410F-8748-82BA9E2B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F70B-414F-44A6-A16B-AE5F9C5E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7C0D-4CD2-4F12-A014-625F6C45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7231-D4AF-4A82-82C3-BE42D237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EBB4B-4710-41A0-B3AD-1B3851B01B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