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99915"/>
        <c:axId val="49031108"/>
      </c:barChart>
      <c:catAx>
        <c:axId val="34699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1108"/>
        <c:crosses val="autoZero"/>
        <c:auto val="1"/>
        <c:lblAlgn val="ctr"/>
        <c:lblOffset val="100"/>
        <c:noMultiLvlLbl val="0"/>
      </c:catAx>
      <c:valAx>
        <c:axId val="49031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9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7F7-5044-4295-B2E5-DC531ED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837-CDB1-4090-A669-9B33189E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91D-90F4-4B78-BB32-57DE5A38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2CD-39B7-4534-92F1-C6F60DB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1E4-99FD-49E0-8B94-A2195EAF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C3C-0F7A-4F22-901D-477D1FE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5A1-83D0-4D8E-9327-6E25231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B7D-5628-4293-95BA-8323166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A88-07BA-4A5E-B4EF-E682107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AC2-D1C6-4134-8607-9BD0669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1A2-547F-4A8C-BD3E-234FBB4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D70-F0B9-445F-84A5-C673110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B3077-4670-48B3-8C66-44201EEAC9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