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03715"/>
        <c:axId val="44331173"/>
      </c:barChart>
      <c:catAx>
        <c:axId val="64403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1173"/>
        <c:crosses val="autoZero"/>
        <c:auto val="1"/>
        <c:lblAlgn val="ctr"/>
        <c:lblOffset val="100"/>
        <c:noMultiLvlLbl val="0"/>
      </c:catAx>
      <c:valAx>
        <c:axId val="44331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03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31F-D0A9-48A6-A3D3-47D910DF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6D2-4DF9-4268-878D-D2E69E5C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B2A-760F-4A6D-8EB4-E49F3703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BBC-4244-45F6-8759-4588E8D0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30A-611F-44BE-A3B9-9264529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A5D-1076-47CB-B451-A61C6BAB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79C-4522-44DF-8841-7D998C98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335-0E83-4D90-AD3B-D42B283E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18F-36D5-40A6-9CD0-3FA3EDCE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9F4-B104-45BC-8938-6C0458B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BFD-492D-4976-ADFC-5AA54110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C29-4BDD-45A4-A786-A19F0568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33272-303A-47C4-855E-356800B38B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