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45845"/>
        <c:axId val="41998652"/>
      </c:barChart>
      <c:catAx>
        <c:axId val="49745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98652"/>
        <c:crosses val="autoZero"/>
        <c:auto val="1"/>
        <c:lblAlgn val="ctr"/>
        <c:lblOffset val="100"/>
        <c:noMultiLvlLbl val="0"/>
      </c:catAx>
      <c:valAx>
        <c:axId val="41998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45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D26-139B-455F-BF03-49945EDE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50C-E66D-4B6F-8A1D-4EFFA3C5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2FB-8658-455B-9F91-EC51F520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541-030D-4800-A486-27B30478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EC1-C5C8-47B2-B53E-D868998F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66B-826D-4F69-A2B6-E7BF96C0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78C-3336-40A5-AD8E-BD79E037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CE5-B324-4A42-A797-E065A9DF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CFD-E295-459A-A04B-6CE2B686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2F2-C41A-4A24-A861-15FBCE4D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F1E-AE11-490D-9C10-F7FA6129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A65-50DA-462B-B41F-917F9681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A3576-618D-4DEC-876B-CCC9FDE323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