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13266"/>
        <c:axId val="68340762"/>
      </c:barChart>
      <c:catAx>
        <c:axId val="372132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40762"/>
        <c:crosses val="autoZero"/>
        <c:auto val="1"/>
        <c:lblAlgn val="ctr"/>
        <c:lblOffset val="100"/>
        <c:noMultiLvlLbl val="0"/>
      </c:catAx>
      <c:valAx>
        <c:axId val="683407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132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BB6-1F53-4D61-8570-C63132F1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B9B9-A496-4BFD-A248-4CC7B72E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C5C1-32E8-4A7C-A464-36482E4D2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FC6C-5F79-495B-89CE-82EE9535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498-675E-498C-9EB9-8BA28974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FBAD-F0D3-49F9-A45C-20AA48AB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611D-6FDD-4907-9127-A9869633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5A1-343C-4A96-A9C1-7F4F6E1E2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A0A2-79D7-4716-B735-D3CB1955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5F3F-7A85-4BE3-B9CD-4F0ED77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5F5-4C01-466F-BE93-CD642CEC2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5FDD-8783-43D7-8D14-41E4C35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0D4AF4-B439-4B75-910D-6C267C157D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