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474764"/>
        <c:axId val="96818283"/>
      </c:barChart>
      <c:catAx>
        <c:axId val="454747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18283"/>
        <c:crosses val="autoZero"/>
        <c:auto val="1"/>
        <c:lblAlgn val="ctr"/>
        <c:lblOffset val="100"/>
        <c:noMultiLvlLbl val="0"/>
      </c:catAx>
      <c:valAx>
        <c:axId val="968182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747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DAD-B8EC-4581-AB7A-AF13E1E5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4C6B-4387-4A5D-8B00-7F576A63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D8F5-81C9-49A9-8CA1-72D0C7A8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1621-C874-413F-B59A-D1F82C91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5818-5633-4C23-A777-D75C329D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AFF3-3D46-42D6-B4D4-FFB58047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49E8-43D0-4202-BE3F-21598B05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BE28-4FAB-4143-A520-33D6C1AD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1D50-D861-471B-A665-FB0BBFD8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BDD5-70BB-43A5-A3CD-90D9C838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2851-8A13-4790-B109-6F706ED9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0E7B-218D-4D9B-9E13-E91E6D4B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61C47-7B09-442B-865A-B1FDC9F6A6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