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90409"/>
        <c:axId val="25263628"/>
      </c:barChart>
      <c:catAx>
        <c:axId val="4959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3628"/>
        <c:crosses val="autoZero"/>
        <c:auto val="1"/>
        <c:lblAlgn val="ctr"/>
        <c:lblOffset val="100"/>
        <c:noMultiLvlLbl val="0"/>
      </c:catAx>
      <c:valAx>
        <c:axId val="25263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9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6DE-7B37-4B76-8517-AE16DA5C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38C-CF2F-4606-8B94-D5C27A0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60E-8A8A-446C-8F6F-27D7DA81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E9F-B16D-42C7-A5C1-71DD10C5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141-1CA7-4F74-9991-76332E82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D6A-EDFC-4061-A117-4D23F66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227-9812-4933-BBCE-B3FB67E4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E9B-E69B-44A3-96D4-DC1C5D26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251-F723-4275-AC04-57D993E1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5E4-78F3-4008-8904-59F5602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5BC-B57C-4953-93B9-23E0967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126-7D4D-474E-A64B-8A25334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110A-272E-4C01-B030-5ABB6B605F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