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902498-C393-4D26-92C3-0D34298D7AB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50204D-3A28-4EA0-840C-864FA225A7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337095-10B4-4B92-A9C6-F53FCE1FC94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B57A38-D862-4977-A2FC-B0258785E05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8774A3-4858-42B4-9099-595FCB5FA96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89008E-BC87-439D-BB02-8754B2D6819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1DFE82-17ED-4189-B6CE-6745E34171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F9DCEA-7DA5-4C50-965F-7ACAE6F1887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0DA0A7-6A91-447A-8D2A-46BE494D916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C24FB2-C16F-4378-AB42-E73CDB0CC60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FAAA80-16BD-4A9A-891F-F63E386A49F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D80C14-BD21-4853-9447-53C4797C94F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3D56B-B106-4989-A405-24081E9996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254160" y="2349360"/>
            <a:ext cx="380880" cy="609840"/>
            <a:chOff x="254160" y="2349360"/>
            <a:chExt cx="380880" cy="609840"/>
          </a:xfrm>
        </p:grpSpPr>
        <p:sp>
          <p:nvSpPr>
            <p:cNvPr id="41" name=""/>
            <p:cNvSpPr/>
            <p:nvPr/>
          </p:nvSpPr>
          <p:spPr>
            <a:xfrm>
              <a:off x="349200" y="234936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444600" y="252360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301680" y="278496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444600" y="278496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54160" y="26542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371600" y="21337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397160" y="220968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971880" y="23749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816200" y="29113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362400" y="3619440"/>
            <a:ext cx="358560" cy="722520"/>
          </a:xfrm>
          <a:prstGeom prst="rect">
            <a:avLst/>
          </a:prstGeom>
          <a:ln w="0">
            <a:noFill/>
          </a:ln>
        </p:spPr>
      </p:pic>
      <p:grpSp>
        <p:nvGrpSpPr>
          <p:cNvPr id="51" name=""/>
          <p:cNvGrpSpPr/>
          <p:nvPr/>
        </p:nvGrpSpPr>
        <p:grpSpPr>
          <a:xfrm>
            <a:off x="250920" y="3659040"/>
            <a:ext cx="380880" cy="609840"/>
            <a:chOff x="250920" y="3659040"/>
            <a:chExt cx="380880" cy="609840"/>
          </a:xfrm>
        </p:grpSpPr>
        <p:sp>
          <p:nvSpPr>
            <p:cNvPr id="52" name=""/>
            <p:cNvSpPr/>
            <p:nvPr/>
          </p:nvSpPr>
          <p:spPr>
            <a:xfrm>
              <a:off x="345960" y="36590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41360" y="38332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298440" y="40946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41360" y="40946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50920" y="39639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1393920" y="34290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432080" y="350532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71880" y="3619440"/>
            <a:ext cx="358920" cy="722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816200" y="42181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3362400" y="2387520"/>
            <a:ext cx="358560" cy="7225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755800" y="2590920"/>
            <a:ext cx="55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781360" y="38862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580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73200" y="3886200"/>
            <a:ext cx="698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76720" y="2057400"/>
            <a:ext cx="53316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543480" y="4510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3352680" y="5056200"/>
            <a:ext cx="381240" cy="609120"/>
            <a:chOff x="3352680" y="5056200"/>
            <a:chExt cx="381240" cy="609120"/>
          </a:xfrm>
        </p:grpSpPr>
        <p:sp>
          <p:nvSpPr>
            <p:cNvPr id="69" name=""/>
            <p:cNvSpPr/>
            <p:nvPr/>
          </p:nvSpPr>
          <p:spPr>
            <a:xfrm>
              <a:off x="3448080" y="505620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543120" y="52300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>
              <a:off x="3399840" y="54914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543120" y="54914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352680" y="536076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Document"/>
          <p:cNvSpPr/>
          <p:nvPr/>
        </p:nvSpPr>
        <p:spPr>
          <a:xfrm>
            <a:off x="1752480" y="502776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514600" y="5256360"/>
            <a:ext cx="77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714680" y="510372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3797280" y="5257800"/>
            <a:ext cx="115560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86200" y="20718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371600" y="29862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397160" y="42814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13000" y="17524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797280" y="17524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327480" y="306072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49560" y="30607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314880" y="337500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36960" y="33750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3526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80880" y="45720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one Signing with Absent or “Unsecured” Child Deleg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486400" y="29098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537160" y="29210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Document"/>
          <p:cNvSpPr/>
          <p:nvPr/>
        </p:nvSpPr>
        <p:spPr>
          <a:xfrm>
            <a:off x="6553080" y="481500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477120" y="4815000"/>
            <a:ext cx="838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ecked Zone File (with key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952880" y="4662360"/>
            <a:ext cx="11430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095880" y="4967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724280" y="2666880"/>
            <a:ext cx="2895840" cy="3367080"/>
          </a:xfrm>
          <a:custGeom>
            <a:avLst/>
            <a:gdLst>
              <a:gd name="textAreaLeft" fmla="*/ 141120 w 2895840"/>
              <a:gd name="textAreaRight" fmla="*/ 2754720 w 2895840"/>
              <a:gd name="textAreaTop" fmla="*/ 141120 h 3367080"/>
              <a:gd name="textAreaBottom" fmla="*/ 3225960 h 3367080"/>
            </a:gdLst>
            <a:ahLst/>
            <a:rect l="textAreaLeft" t="textAreaTop" r="textAreaRight" b="textAreaBottom"/>
            <a:pathLst>
              <a:path w="21600" h="25115">
                <a:moveTo>
                  <a:pt x="3600" y="0"/>
                </a:moveTo>
                <a:arcTo wR="3600" hR="3600" stAng="16200000" swAng="-5400000"/>
                <a:lnTo>
                  <a:pt x="0" y="21515"/>
                </a:lnTo>
                <a:arcTo wR="3600" hR="3600" stAng="10800000" swAng="-5400000"/>
                <a:lnTo>
                  <a:pt x="18000" y="251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969160" y="571500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876920" y="467820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ck Zone for Err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6400800" y="3886200"/>
            <a:ext cx="380880" cy="609120"/>
            <a:chOff x="6400800" y="3886200"/>
            <a:chExt cx="380880" cy="609120"/>
          </a:xfrm>
        </p:grpSpPr>
        <p:sp>
          <p:nvSpPr>
            <p:cNvPr id="99" name=""/>
            <p:cNvSpPr/>
            <p:nvPr/>
          </p:nvSpPr>
          <p:spPr>
            <a:xfrm>
              <a:off x="6495840" y="388620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591240" y="40600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>
              <a:off x="6448320" y="432144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591240" y="432144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00800" y="41907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"/>
          <p:cNvSpPr/>
          <p:nvPr/>
        </p:nvSpPr>
        <p:spPr>
          <a:xfrm flipH="1" flipV="1">
            <a:off x="6121080" y="3695400"/>
            <a:ext cx="25380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270400" y="51451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931000" y="342900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76244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952880" y="51958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486400" y="3443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858000" y="3505320"/>
            <a:ext cx="12952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858000" y="3581280"/>
            <a:ext cx="129528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 flipV="1">
            <a:off x="6781680" y="4241520"/>
            <a:ext cx="330480" cy="571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0" y="32004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743200" y="5791320"/>
            <a:ext cx="1676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lude public keys in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572000" y="1981080"/>
            <a:ext cx="144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 line arguments to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dnssec_signzo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118120" y="2527200"/>
            <a:ext cx="0" cy="81288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Document"/>
          <p:cNvSpPr/>
          <p:nvPr/>
        </p:nvSpPr>
        <p:spPr>
          <a:xfrm>
            <a:off x="8153280" y="47242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153280" y="4749840"/>
            <a:ext cx="673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Document"/>
          <p:cNvSpPr/>
          <p:nvPr/>
        </p:nvSpPr>
        <p:spPr>
          <a:xfrm>
            <a:off x="8153280" y="28195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8115480" y="289548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Document"/>
          <p:cNvSpPr/>
          <p:nvPr/>
        </p:nvSpPr>
        <p:spPr>
          <a:xfrm>
            <a:off x="8153280" y="38098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115480" y="388620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47Z</dcterms:modified>
  <cp:revision>154</cp:revision>
  <dc:subject/>
  <dc:title>Slide 1</dc:title>
</cp:coreProperties>
</file>