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0478-F903-4835-B8F8-61C28AFA3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AEBF-F8E4-4492-A8B2-974DDA937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40E626-AA4C-4563-B807-1F65661CB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11469F-9941-49EB-A574-2A3999CC6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A04084-3458-4A5D-B0AB-5892C3BB7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9458D0-D055-45A2-8A1F-E0D2C9564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0CC024-4C53-424A-811C-D83DF4592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5623B4-C58E-4EB8-8009-15B45D82A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3CED96-1F84-4F20-A837-5B6E6B2B4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21FC36-17C4-4CEA-9D66-DD0C909CF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A8F1BD-F788-4405-A83C-50E780DB5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6FBF00D-71E0-4D89-92E1-3396B3474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96A8-E807-459A-9F35-AD9AA96A6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7E7E69E-AFD7-4CAA-9287-5BF6D494C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34CEE6A-16B3-41D1-B142-E028A7E66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456EFAC-D65F-4976-8AFC-DE46DA600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3783DDA-7C46-4756-8461-372021623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F465426-6A32-4986-9FEF-2F90D561D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388EA0A-0CF9-40FB-911C-18B14A6C0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E8D6476-D46B-424A-BCDC-20C8A8D13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60B3C64-A9FD-4342-9302-89891A9CA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CA17853-78CE-458E-8F6F-C956357BB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8547962-0D5A-4637-9BD5-FF3466182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FA5A-8BA3-4252-9DDB-26E0C9C2A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A206F60-2C38-4B06-B64E-55415ACE1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8759A1-1F9E-4E28-BAA1-7CF9312D0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CB20E7-C3C2-46D9-B9C4-0186B875A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0F3347-B640-4C20-AB11-C92EF39EA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706876-9DAE-471C-8349-3306F5467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9CD4A3-6147-42B0-A9BF-9A056AC94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FC0AFB-F9F6-4A88-BC54-0BA6343A5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6B32C2-32DC-46B1-95E9-3279C8049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65F8C3-FA78-494A-8074-722D96C6F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F8D829-2D44-4D68-8225-AEB130FB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5362A-203E-4880-B75D-8DBFD09DB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4D8DAA-4E08-4EFC-B92C-593399D6B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61791E-F460-4FAC-B0F4-BF1E81769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C1264E-AFFC-4997-BE1E-1043857E8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E9A573-305A-48B5-8523-61FD0DBE2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C2ABEF-5EB0-4D9E-AF0C-C24EBABBA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8D88FB-03F3-4768-A2BD-CE30774A9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85A516-CD4A-4DB1-AB12-57B080BE4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4E5EC1-48B2-423C-8291-3FF3089AE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3EF95F-AADD-4D99-AA04-960FF3ADF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7DCB1A-1CF5-4C4B-80B1-7A0C4396D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EFDA2-401D-4000-8DDF-A87B52629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1658BE-E68C-4724-8398-B736B7BA1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02FBED-3D57-450E-B71F-F13DBCCAC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383C25-94B2-4D88-A0F1-D52AE8846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B525B0-AB92-4297-B94C-C1247B67C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AFBFFC-1E91-47B9-A8B1-82FF035ED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D8CD4-711E-4483-917E-DDB427521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5207A-B9F1-4056-BEDF-9C861C2BA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DFF96-4B02-430F-8112-A62589CC1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84622-DEAB-47AA-91EA-662E085D6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8DDA1-C318-4488-B5BA-899D0E69D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4F1E-990B-485D-AEB3-8A6D36F4D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72DF3-47A6-4CCC-AD72-02FB0FA4F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8F7B3-33E3-403D-9CC3-2B149044A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41A6F-3834-4890-872C-D9EA7BDA6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52303-A871-4712-8FA5-0CD46CD33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D1B18-2C38-4352-B00F-BC418F683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C2B0A-903B-487C-BD11-9BB108034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B84EE-4B6B-43BF-B03D-13896D1B0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F1D39-4333-4985-B0E0-D87BE3ADD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739B4-8668-434E-AE21-4B1636E0B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17C4C-2C28-4A53-8E28-2CD198257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9E8D-ADAD-452C-8DF4-5DC17B3D6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5CC49-1440-4704-83E3-649FD04D9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B0F99-139F-46CD-87E4-939949DD7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5A56F-A4DA-482F-A64F-D1FC49A5F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6999A-7F60-4FDB-999E-617AA8738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0E87A-735F-4D9F-BADE-D85FC8162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A0DC0-044F-4B7C-80FB-088248E14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B6ED2-169C-45D3-A1AE-906EA52FF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ACF4B-399A-4526-9F7E-ABBD064DB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BC5A5-C60A-447C-A5C3-3DAAB41D2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1E368-639B-4BDA-8C7A-0162A10D4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0ED7-7F2B-43A0-9F31-A07DD88BC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7E04F-D5AF-4598-A713-5D7E0FBBD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14BA6-80B9-48E7-A528-3CBA27723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D2131-E27A-4927-B6C2-9D4E30327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2607A-A5CE-41CF-9B96-38126923D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3B030-2B9D-4474-9196-CE480579E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3966A-58C2-453A-AC44-891598F6D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9E97E-2FE2-4917-971C-C381E7EF6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38AE2-4E72-48CC-83A8-F932B1EB3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2A1DB-41F4-4270-80B6-36A4E5CBB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B60A8E-0726-415A-BC54-7FAF8D782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0828-CDD4-4D6E-A56B-7FF6BA51B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490E9A-C3E8-47FD-9014-EDA4513F4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17BB55-96B2-406E-99D4-47EB83B39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D7D8E4-645A-4927-8B80-2AAED4151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F85178-B79B-485C-A3DF-3C11DAA81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C02AEF-79C5-451C-B438-4DAC6C9FE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E40310-B124-4CE9-9C3D-0FCA7FA88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C1CA11-3FFE-4982-AE21-DA517FB16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937986-A19F-45FD-A500-F4E626FD7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810F36-A2CB-48E9-9AF5-51CCA1908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72234F-FCAF-4AEA-B6B5-125AE9520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AB5A-5885-4B72-8906-CCD8940EC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B703EB-A17B-4CF8-AD75-C2CACDAD5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A1B828-1717-48F2-B297-FEFCF9EF7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02DD6B-8CCC-48C7-A779-2F6BD8E82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982C83-BAC2-4B43-A611-1A3F0C7C8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C9FC4D-26BB-4B5B-95E9-8B66E4F57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5BB3D5-49E7-4F29-A20A-0D0C15B81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D11A36-70E6-4D2D-875C-663CAEAEB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E080F5-D95A-47BF-8543-016F1CDCE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14D87A-37FF-45EC-8541-D9C72BC66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DABC2F-8208-42E4-8B12-5290AC8EF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280B-41F3-4183-85A5-4457F3170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835826-CBCB-4119-AB4C-CCA40F5FB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E544B0-CB12-4D76-935F-120173D61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6273AE-0832-4580-9220-B51B14464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D2A5E2-59D6-4BBA-BCC2-BF0772D3F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8D6FA2-A327-425F-9951-C0B48B755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E05043-0C42-4D26-AF4D-71A1EF03B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C75817-5841-408D-870D-1F56378D8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3767FF-7D05-4A72-9D49-10E735F28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E32E9A-7711-43B6-84A7-67D337DE0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B66AB6-B108-4D19-B6D2-A445CACAB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394B-1065-4065-A417-848EE2A48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D9CCAE-44B2-4DDE-9982-07857B1D0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373E63-F5EF-4F1D-A33F-FD7AC35AC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6439D8-26A8-47E0-A794-8EE7D5719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89A5D3-A1BD-4C4E-B0CE-0FCA30635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BB171F-674D-4FF8-ACCB-F183AF710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5A473F-95C5-4A53-AE48-3D389D4B0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3E7EFB-8870-497A-92DD-0C329BF51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542C40-B47F-453A-B52F-C48076FC7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EFF2E7-9D2C-4C7F-8169-3E55740B5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78C4DA-36AB-415C-B10C-73320079F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EDF4-AB9D-430D-BB35-93E485CDA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247F13-6BA5-451E-8318-49B5A0FBE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00211D-0503-4720-877F-F034E2862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04EDB7-31B5-4F67-B986-69D91B05D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E5CDF5-5C63-4F6C-A9F6-C3B79920E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1B2B6F-D5C9-4CF2-BA6C-529823413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8D83D3-6B0A-4B89-87BD-8136DAC6D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E07E8C-508E-45AB-BA3D-D681A4802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9D52E1-CA01-411B-BE54-4EDCDAE5F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54B9B7-5F4A-4D2A-9F5A-FC3C0524D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86FDE9-9538-4B1F-81C6-CC40A9491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5BA34-92E1-49D8-83FE-378D8628D291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86C79-B7BE-48AA-90EF-D91354C11D4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C8774-A1FB-4438-A157-8C487305221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277C2-7B6E-43A8-B033-3DAF8D263B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F5FAD-4510-48A9-8CCD-7D80672AC015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BD5ED-4293-4E1B-A933-9799E693D45F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2BCCA-86BA-40BF-8795-B4CE2F3FDF33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BAFCD-5B8F-4E69-A533-034EDBC462B7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854F7-7151-4F30-BEC5-16BFA3F5FB05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FD992-A055-440F-925E-9DD6D64DF4F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16ABB-FB70-4639-BA0B-7442B728BA0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2D6E7-4128-404A-B440-228AD951B9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7036D-DEF4-4446-A8BA-CFF2CB579FE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AD0AA-A705-4D3F-A8AE-3E21B8F353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02CE6-60E2-4405-89DB-DA9631E189C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3E635-04F9-4BB9-821C-A7D00923061C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2ED84-CABB-47BF-BCD8-6C3CC1B24DA2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AE657-05EC-4EBE-8700-AD30ADE83CF9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57347-C260-4EED-9936-471BA6708B1D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38F54-0838-4DFA-AE86-0F3EB56FA98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1B9A8-4C0D-4AAB-9369-708869A3C821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09C4B-1A7F-46FD-A2F5-F83C6001357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3F27B-FD42-4940-A4B0-49864A28A65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409AB-72A7-40FC-88D8-CE95CAAFC0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00AE-0617-48D7-A7B7-97C80E26CDC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CAD1A5-966A-4337-AEC0-89FACFEF4065}" type="datetime1">
              <a:rPr lang="en-US"/>
              <a:t>07/29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556190-5500-458F-AF03-517249229A7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B68C16C6-2CD7-483D-BFD3-16E8387001FA}" type="datetime1">
              <a:rPr lang="en-US"/>
              <a:t>07/29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5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2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8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9A16A-8C7D-48A6-A714-C96DEB1F8F4E}" type="slidenum">
              <a:t>3</a:t>
            </a:fld>
          </a:p>
        </p:txBody>
      </p:sp>
    </p:spTree>
  </p:cSld>
  <p:transition>
    <p:comb dir="horz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000"/>
                            </p:stCondLst>
                            <p:childTnLst>
                              <p:par>
                                <p:cTn id="1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4000"/>
                            </p:stCondLst>
                            <p:childTnLst>
                              <p:par>
                                <p:cTn id="1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0"/>
                            </p:stCondLst>
                            <p:childTnLst>
                              <p:par>
                                <p:cTn id="1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33EC86-EB67-467E-93D8-049C83A2244E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E44D82B6-E47A-46A9-B64A-9CA87D458DD2}" type="datetime1">
              <a:rPr lang="en-US"/>
              <a:t>07/29/26</a:t>
            </a:fld>
          </a:p>
        </p:txBody>
      </p:sp>
    </p:spTree>
  </p:cSld>
  <p:transition>
    <p:wedg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7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1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4000"/>
                            </p:stCondLst>
                            <p:childTnLst>
                              <p:par>
                                <p:cTn id="20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5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6000"/>
                            </p:stCondLst>
                            <p:childTnLst>
                              <p:par>
                                <p:cTn id="20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3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5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7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1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3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2A06BE-3460-43F5-B8F2-0A455D8FDEF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01A57C69-0A37-4CAD-BA98-D12AE1812D6B}" type="datetime1">
              <a:rPr lang="en-US"/>
              <a:t>07/29/26</a:t>
            </a:fld>
          </a:p>
        </p:txBody>
      </p:sp>
    </p:spTree>
  </p:cSld>
  <p:transition>
    <p:wipe dir="d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3000"/>
                            </p:stCondLst>
                            <p:childTnLst>
                              <p:par>
                                <p:cTn id="2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0"/>
                            </p:stCondLst>
                            <p:childTnLst>
                              <p:par>
                                <p:cTn id="28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6000"/>
                            </p:stCondLst>
                            <p:childTnLst>
                              <p:par>
                                <p:cTn id="28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7000"/>
                            </p:stCondLst>
                            <p:childTnLst>
                              <p:par>
                                <p:cTn id="29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8000"/>
                            </p:stCondLst>
                            <p:childTnLst>
                              <p:par>
                                <p:cTn id="30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9000"/>
                            </p:stCondLst>
                            <p:childTnLst>
                              <p:par>
                                <p:cTn id="30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3000"/>
                            </p:stCondLst>
                            <p:childTnLst>
                              <p:par>
                                <p:cTn id="3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6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8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1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3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6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8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1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6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8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1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3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6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A1CCFB-27CB-4B0A-9BFD-89D54E01B57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7213567C-3490-446F-BCD3-63622E79FB6B}" type="datetime1">
              <a:rPr lang="en-US"/>
              <a:t>07/29/26</a:t>
            </a:fld>
          </a:p>
        </p:txBody>
      </p:sp>
    </p:spTree>
  </p:cSld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5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8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3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44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2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3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