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8A17-906C-489D-81E9-9608FF94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0221-2688-40BF-834E-A4E99559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499E89-8DE7-4AF6-93D4-1D5EF77B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6E61C-D36B-4041-B744-DB1B2AD3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E7550-9B44-4F25-B9EF-485DDAB4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C6E31-C6BC-4A34-B064-4069B3B1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85294-C3F9-43E7-913D-33D48119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1D225-135E-4832-8EA8-EFB9B47D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E6CBB-09F7-49F1-A047-C879A309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B6A01-D445-4944-AA8E-E87DE163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CB1CB-5189-4261-AA8A-FC344FEEC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641270-BF8B-4CFD-8437-698FB389F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F7D7-6EB0-4C06-94E1-D6E5E56A5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1DD3BF-E2C7-41F8-920F-D968B7C2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D65F36-7099-4DBB-8DF4-6A860919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3F8B0B-46FF-4A04-9E6B-203293A2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6D3719-204A-4564-A20C-5A6D9D4F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311B99-E424-4F3B-B995-D8E78328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C2AF46-06E4-4C47-B439-971DAF1A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54FA00-74DA-47E8-BAEE-EE8D69F4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A68B8D-B76E-4DEF-ADD6-7B456A16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830D4D-FE45-4F50-88FC-1A9DACB8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469017-7AD4-4F5E-9FCB-6AE36E0CA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E426-4835-46BB-BD89-8FE05188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F961FB-B05C-42D8-9C4E-9323D9463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9DC8F-40D9-40F3-929B-E02DAFD1A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49910-4B61-4C74-9AB3-782CC967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411C9-AB3E-4058-B955-7DC57124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C70BE-E20C-4C38-9F4D-50E5154F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305B0-DF8C-4D50-A759-8866A696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38BB8-67F8-40B1-9010-332C1341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B5B89-0699-4630-A8BF-05A9111D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BC84D-F834-42B0-918A-49087B5D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0F328-59D4-4BBB-B20D-E29F7545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06C5-A6BD-48E3-B21F-BFE983694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F9983-68AA-4E88-BD2C-278064EC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8897D-F384-4A6D-B1C6-52B35763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00D25-F9B0-4139-A400-1DAD591A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259B54-5C7B-4BC6-B71D-6DD32C51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998F2-F43B-4AB4-BE72-587D0113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BFA296-6ACA-404D-84C0-B03C9822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CF580-C97C-4DA9-A4D3-3CF9EEE3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4553A3-BCD9-47F9-B9A3-1228D1DB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E58A17-A67B-4AEC-B875-0728B58E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37BEE-B3FB-4933-ABB9-A2629E0D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E40B-7585-461A-8D87-E2C2C8D5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99777-9964-4E57-9145-95AA7F7D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9488D5-BD0C-416F-BA83-6F405FA8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F5A75-AD7B-452E-B081-147EF726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4CBDA-F1ED-4A6A-BC62-6351156D1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672337-FFED-4E85-934D-76A4A06A6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C440-C8A2-401A-998A-7EEC4264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55C9-364E-4A18-8809-49FB7163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4984-74BE-4451-8B50-F994BF77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8302-DF67-4675-BD59-AECD810D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28CE-7D0A-4BE4-A75D-1B653AB7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EA42-BFE2-409C-8A8F-E88DD20C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FE27-387F-4724-B25F-65F7D7CC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2F79-52A7-4B79-8622-602EE965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1A31-5EF9-4EE1-B312-075105DC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4A94-1478-4BE4-A362-5F39A5DFD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A77C-60B7-4470-8E47-E1AE4E7C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D3A19-A072-4818-932B-2FDADC0D6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04380-30B2-49C4-AF3A-2622B341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F644C-9473-400F-A187-4348FDA7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88833-9AF7-4686-80BD-BB374794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E6DAC-E2A3-423D-886C-94299E11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6E5F-BE57-40B2-82CD-D5BB7E5C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63DAE-8950-4AC7-94C8-3600064F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D19CB-08B2-4C1C-A8E4-8BF8AF07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C66E0-81D2-4EC5-AF28-CADFE55F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FD247-CB67-420C-9E0E-3A79E863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4EFD6-1DB4-4953-B78B-CD2C8DD0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78A38-750C-4849-A328-E775C505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8B4AD-F47F-46B5-BEE5-ECED0B997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1C367-86C6-4FEB-B6F2-9CA4E27C9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9D57F-F491-4001-A59E-99EC34C7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1ACA8-0958-4475-9810-BEFCAC96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4755-4836-47AA-B891-23DFC967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3EF31-E62E-4B88-98B1-5F0FF33D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EB333-A2B1-4762-83B6-6852EDEA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7648D-D36E-461E-87BF-2083FA38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DF990-F23D-479C-B100-F147A717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F420E-64C9-47C5-8F69-D1C4DCB2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7A788-9B64-49B9-8CBE-3BC894CA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69BB8-00CA-48EC-B39A-03060E27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D861F-A42D-4CA5-8A86-6BC0A0FEC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0DB01-7FF4-47E0-8CF4-E3EBAF949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E0E797-C97F-4017-99C8-846D1107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E167-EDF6-42F8-95AD-7B842144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B12C05-1B75-4322-969E-292CDF4A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CD1F81-4AB4-4867-B7D6-FC1ECF23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BE7C71-E8D8-4CA2-AB87-3F56DDD2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3DD403-5053-4A99-AA34-096750A3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16E536-0A2C-456A-8719-9AD5FFB6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2FC279-C340-4E45-948D-05D14FC8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2D9751-0683-4DE1-AC51-295D7B30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9F3E88-CD4F-4D85-A865-3BFA577A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534129-36E9-48A0-83E2-92F891AB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C22151-8FFB-44A7-98B0-20B33867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CA11-9B2B-464B-A3B6-5C288264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DBAE6D-CD37-4335-987B-365D829F6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60A74-CCFB-4EF8-A438-3D5D548B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C4BF5-8197-4565-9EFA-15F1CDCD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9812B-778D-404D-BA42-434EDD8D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AF59B-D3F0-423A-8A47-6D9924E7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7481A-5DB8-4197-AB40-081F4EF3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8CF6E-4569-4AB1-A5A3-6D685D8A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A3E1C-46D9-45D3-8348-B56466B6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74F8F-5539-411A-AD73-98217630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4DADE-4CD6-4369-9F6B-C779D68D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8F5E-D024-4962-9933-D0096713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7C4C2-3614-4011-A681-3C9F387C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A4551-3BD8-4FB0-BB6D-F47F28A5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18878-D09C-40E5-8866-FF922DA6A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5FF0B-5E53-4AD1-B88C-6BB633050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7600C-C88C-421B-A12A-647D7F13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749DF-E07E-4B5E-B4CD-DCD9D990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50012-6E30-48BB-8D97-91CED270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5C0BF-6DE9-4702-B004-63D121B0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7BB79-87A5-47A1-A379-DB267DEB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9FA5F-99AE-4852-ABF2-AEF930D3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6529-9CC7-4D6F-A93D-5A8A666B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B230A-225B-4DAD-AC2F-C505F8CC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84301-7FB4-48B8-B0A1-FE29EF52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04771-AC95-4B74-A0FB-57A51F98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429D0-7077-4F8F-B524-F081D99FC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B8DFD-6A50-4E8F-B8AC-365BB2ABC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ABE52-9009-4612-B147-A770D019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403C4-6F37-4D4A-8968-7E41DA08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FD20E-EA31-4E54-AB8D-48CE7198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3574E-057B-4DEC-AA70-5D4DE0F7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84008-CD1A-4416-A76D-2A2EE871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8D50-F53D-4F55-8BD7-F9986A45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F4D3B-82DE-4D4F-93DA-9F043C10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04687-A3C9-4C30-A88F-56FC92CB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ED1E1-8B2D-4620-828D-754EF816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1DE8A-C8EF-4FB3-A0A0-A20A338A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CBED3-8590-4F01-9FBD-88E0C17E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9F283-B974-4E6C-8C4D-1526AD14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81CA7-8F18-4DB4-B151-5E40E3091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D4314-3AD7-4BEE-85F1-4B09E9085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11188-22CD-4AA5-A10E-F4974459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5B079-24B5-44D0-AE55-5BA28461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127A-8E11-4CD7-BBA8-B8151ABBC52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ACFC-CA45-40B5-B493-2EDA8B182A8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1EA8-A47F-4665-AFE7-88F40AB3AD5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08EE-F8E9-4AD2-8787-703D2F96E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DED1-7259-4069-8F3B-DCB08DB779F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6262-A8F3-4553-9D21-C01112CB971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829F-B74E-4E4A-8E6E-9C4A372C003C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AB65-3F6B-470B-BDAB-E66D306B7B7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4BA7-E6EB-4E52-A1F2-78E9EB824D0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CCC2-AB8A-4AD3-91BC-843739D09EF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88ED-6587-4034-9456-919A2797256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7FDE-07F6-4E90-BF81-AF41E6675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C4DF-A6DD-4E95-A0C3-F89C13FA3DE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1D92-71B9-4A65-A534-835453A34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483B-3022-4478-BC76-F89F07A5C9B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D829-0411-41F4-8B92-F0136018E3B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F9D0-1967-4251-A381-41F8ACA7B39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C078-0283-472B-96F6-C1CABC8EFA8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1270-1CE3-40C9-B0A3-912893F5D7B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6690-E734-46E7-B924-AD51323519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277F-2877-4226-906C-4EB96ED86C1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4BB4-6D64-4217-8D88-C681AE3B57F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510A-604D-4F08-BF0B-B7B600D494F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69B4-87D4-4F0C-9894-EA16939EE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5D89-1DCE-4EA1-852B-1526A472989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3955F-DC2B-40EA-9AB9-19DEECC53F9D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60CCE-22E4-4854-9700-A85CE647A6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7165ECB2-E45B-4151-8833-7B255174BF9A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115A9-C5AD-49EE-8059-DAC78666868D}" type="slidenum">
              <a:t>3</a:t>
            </a:fld>
          </a:p>
        </p:txBody>
      </p:sp>
    </p:spTree>
  </p:cSld>
  <p:transition>
    <p:comb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9D980E-FDE8-462D-B3C6-33BE54086F5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13FA3B78-D79B-4072-884F-D8FA69BC5862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3F9E4-87E2-49F8-B957-A1C73E109F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52A698E6-4234-48FF-8FC7-3C9176272804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9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669F8-01AC-4EA1-8F67-C782542E78C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9AE806DC-A1E1-437E-A658-BE12C4F4C75A}" type="datetime1">
              <a:rPr lang="en-US"/>
              <a:t>07/28/26</a:t>
            </a:fld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